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9E3-F5BB-46E7-B67D-BE0E8313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8F1-2A89-4AB8-8218-7267CD8B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280-D269-4981-89C8-F43CA267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12A-6181-43C5-9AE0-8D14A025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29AD-9179-4066-8296-C66B86BB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AE6-73E3-425B-A4BE-A9C0650F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D9D9-7F82-47B7-9374-63423AA1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D41F-1402-486F-9E9F-8CEB0D8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0D80-9D99-4F6F-A332-B204D53C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00FD-6857-4529-9EBF-F1ED9B42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1DF3-28FC-42AE-9A79-9A6DC6C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C52-C236-4EBE-B2C8-7990036E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0916-3C3C-4E8D-801A-4D71E42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4ED3-8EB3-4D41-BA91-2BD9F0A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7922-1E7A-4C8F-B84B-A45C2832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619E-4E9F-42FB-ADAE-CB35D03B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4EE0-2BCC-4E3A-972B-C967061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1895-D83F-4E06-B024-E80D579C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53A5-7911-45CE-AC52-3A84B021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089A-50DE-48FB-A4FC-91516C74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CA73-4124-4C90-A310-6B24C348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3C4B-37EF-4502-9528-3CF33F7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3D2-CBBF-4D7B-9961-177D5E8C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A6F4-229E-471A-9644-2B2DF39B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93C9-2603-4949-96CE-02F2211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9F91-A8D0-4FAA-B260-0841BF7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234E7-6E52-4A62-AC9B-6A629D0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E9D8-A330-411E-8910-85E07F0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2F9E-4AD6-4812-988B-EB17C33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2D78-435C-473A-AB12-2A509229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AC5E-A4B3-4A53-B19C-8AC26B31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8515-BC91-4F95-8EA4-78DEDB4D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E634-2530-4B06-9CDE-6FE83260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95C-A2DC-42E9-8025-7A3DDE7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A2F25-8E4D-458F-8C64-7CB44929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DD48F-2F03-4FC5-8168-CC2EE426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513B-0599-483E-8510-7535323E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336A9-E103-492D-A802-061070EA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EAA7-D9F2-45C8-A5B3-95BE50D5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BEF0-377D-41D2-970D-C8BBF51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129E-B075-4F6C-8F8C-07DBAAB5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FB3C2-B80E-45B7-A070-F2D50108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A6A3-1952-4FE6-9A68-A3ED25A9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8B6D-9ED1-485F-B339-809C1E26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762-0297-4138-B48A-D16A7D4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5629-2819-4A4B-ADA8-66FD1D53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978D-54B6-4353-A1C0-89DF01C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8F2A-0CF0-415D-9F5E-D4988FC7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6E19-08B9-4A7D-8C57-67F59D3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0F8CE-BA3B-4593-942F-8CD2F95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D611-4233-4541-8788-29A314F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D24F-D302-4B11-8D9E-144E3872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749AB-18E7-4BAB-A19C-DAE49FA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B48E3-BD12-4D5B-943F-B60DF7B4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E1E8-9D71-429C-AA45-5BF33326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A7F-9051-4A66-A5DA-0D90BBE9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FDBD0-F094-4210-B11D-ED05D1EC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7F8-7C14-4632-9FD4-90B8F54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69C-86E9-41C5-AA4E-A65ECD5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79B-9D5D-43DC-AFA0-86A7E56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96E9-F4C0-40D4-9D10-FAC20DACEF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772-4D69-43D7-901D-F1DAF27BE4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3841-A9C6-4C70-8E9A-78869773C06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2C79-4264-4B96-816B-9ADBF26EAC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235B-2F2F-42B6-8ABC-273CED0DAA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05672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бес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357200" y="873000"/>
            <a:ext cx="63151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1000080" y="517680"/>
            <a:ext cx="6902640" cy="6340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основ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428840" y="995400"/>
            <a:ext cx="6429240" cy="5670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одношажный ход (скоростной вариант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85960" y="571680"/>
            <a:ext cx="5929200" cy="60973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Одновременный двухшажный ход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571760" y="1011240"/>
            <a:ext cx="5572080" cy="5846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 (прямой)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961920" y="1247760"/>
            <a:ext cx="6967800" cy="5396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попеременного на однов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8072280" cy="5429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еход с одновременного на попеременный ход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скользящим ша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дъем «полуелочкой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000080" y="1285920"/>
            <a:ext cx="7215120" cy="51433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елоч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71760" y="1928880"/>
            <a:ext cx="6858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971640" y="706320"/>
            <a:ext cx="76327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1714680" y="487440"/>
            <a:ext cx="5300640" cy="63705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дъем «лесенкой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пуск в основной стойк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715520" cy="61437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низ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2143080" y="485640"/>
            <a:ext cx="4857840" cy="63723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высокой стойк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735804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пуск в стойке отдых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285840" y="0"/>
            <a:ext cx="6365880" cy="6643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14400" y="2854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6786360" cy="6715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4304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ереступани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Торможение плугом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5786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5715000" cy="64292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5800" y="28548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упор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500280" y="357120"/>
            <a:ext cx="5357880" cy="6249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4400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оворот плуго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476360" y="176040"/>
            <a:ext cx="7199280" cy="66819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5943600" cy="64292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28880" y="999720"/>
            <a:ext cx="3614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из упор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5214960" cy="65120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14920" y="274680"/>
            <a:ext cx="518616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на параллельных лыжах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5058000" cy="6572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оворот махом на 180° на месте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84360" y="571680"/>
            <a:ext cx="7920000" cy="6281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ервая фаза скользящего шаг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143080" y="1027080"/>
            <a:ext cx="4845240" cy="58309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тора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42920" y="576360"/>
            <a:ext cx="7345440" cy="6281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Третья фаза скользящего шаг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етвер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61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826920" y="576360"/>
            <a:ext cx="7561440" cy="6281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Пятая фаза скользящего шага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3:29Z</dcterms:created>
  <dc:creator>Пользователь</dc:creator>
  <dc:description/>
  <dc:language>en-US</dc:language>
  <cp:lastModifiedBy>Admin</cp:lastModifiedBy>
  <dcterms:modified xsi:type="dcterms:W3CDTF">2012-03-11T19:08:16Z</dcterms:modified>
  <cp:revision>5</cp:revision>
  <dc:subject/>
  <dc:title>Поворот махом на 180° на месте </dc:title>
</cp:coreProperties>
</file>