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BDE-3594-4763-A7F2-A402E087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93F-7073-426D-BD9A-14690B69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8BB-5815-4188-A84C-EEC6F579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ECB-61EA-4ADD-B0D3-C06EB22C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7BDB-F2A3-4D7A-93BF-DE3CA254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BB48-D5CD-4E11-AB2E-7367F376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D71A-62E8-4D27-B20C-D516F41D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A311-875C-4795-BE7B-509BE57B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C56F-926B-469B-8291-CA0CD0F6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6C0A-5C57-43FF-AFFA-F2B834ED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C104-FBA5-4221-96DA-EB3FF2A4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835-D2DD-4848-87DE-1B5FECB9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143E-7EA1-45F7-A1AA-7B4888E1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7412-D13E-4AC1-BB47-1C1E4657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0C61-BAED-4178-BD50-FB6BE8A9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737A-8148-4E9F-83FC-34CD3F76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BA1F-7220-41C0-937E-E75D2495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54BA-DF14-47CC-A426-0FD760F3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B1EB-9C2A-40E3-9614-247823E3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51F8-B216-4F8B-BE42-0B661D18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EE04-2587-45A7-879B-0AD5A159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B663-55A2-4568-870E-30D2B6B3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507-A72E-4D68-95C6-7F0249E0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32C6-809A-4190-A8DF-75C1448C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3182-7A44-4A28-A0E3-998A029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E9FD-F826-477B-B3DE-89260C58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3474E-FEE6-4D84-A478-F1D412E3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C34C-5777-4343-A909-2F67C131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0F2B8-39EB-4B9C-AF05-B21FF0D9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D7B7-5A6C-4AA3-B0E5-412F830F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6CFFE-65EB-4E57-BB77-615C64F0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426A-81EF-4E01-B37D-A08CE279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17AF-FB21-4D29-A28E-E3274768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5F1-1308-493A-80BD-33FC6F6F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30FA-31EB-4D54-B307-F6C99DE2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64D9-25F0-4DCE-A468-A985623E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59AE-BE4C-421E-9ADD-54AECC9F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20D5-5885-4362-996E-8BB48ED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2BB1-A5CF-4700-B04F-245F70E5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0E26-9144-4E1B-A7B1-062607E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D285C-F48D-4492-A35D-CB69598D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A7672-98AA-4C29-9A17-066ABD30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2BB26-F6D8-4793-9C9D-FFB6B59A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95A14-4197-4AEC-B505-E6565DA1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5D4-E76A-42A5-BABE-F3BF97A9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6080A-DC06-41A3-9B93-5BB8C3A5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74732-FA55-4EC7-A338-8ABC0736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9D945-978C-4673-8E53-C351CD9C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09E4F-2273-49C4-9519-7BDA5844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217BC-BDB0-4733-A900-C763E0DE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C8190-1C3E-444F-AC13-E3B484D9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41FC8-89FB-4956-8141-0197D7DC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5E36-753B-46B0-895A-BEC2554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69BB0-ED4F-4AE6-943D-E1BCE8FA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2B5AB-0222-4043-BE27-6C4CC882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2D5-B8D0-4FE6-9210-3A524CC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7652E-BD54-44B8-B9F8-74B26C11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622-836B-479C-8662-F26B75BF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E88-BF15-4659-987F-B7DC733D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EF5-2DE1-4A1D-A65E-AB6A2F82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B274-18F0-474D-8DED-36166F7445B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73F8-A751-4224-A513-9E217B47B94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C49D-4FE5-4AB8-AD4D-C8BE4E8A7E2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41CA-9D88-47DD-AC7F-0DC6D2D9A7D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5BAA-DFCE-41DC-BC32-688347868A6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56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бес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7200" y="873000"/>
            <a:ext cx="63151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000080" y="517680"/>
            <a:ext cx="6902640" cy="6340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основ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428840" y="995400"/>
            <a:ext cx="6429240" cy="5670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скорост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5929200" cy="609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двух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71760" y="1011240"/>
            <a:ext cx="5572080" cy="5846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 (прямой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961920" y="1247760"/>
            <a:ext cx="6967800" cy="53960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5429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одновременного на попе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скользящим ша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«полуелочкой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215120" cy="51433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елоч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971640" y="706320"/>
            <a:ext cx="76327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714680" y="487440"/>
            <a:ext cx="5300640" cy="6370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лесен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уск в основной стойк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715520" cy="6143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низ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43080" y="485640"/>
            <a:ext cx="4857840" cy="6372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высо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73580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стойке отдых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6365880" cy="6643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14400" y="2854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6786360" cy="6715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ереступани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5786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5715000" cy="6429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5800" y="28548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упор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500280" y="357120"/>
            <a:ext cx="5357880" cy="6249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476360" y="176040"/>
            <a:ext cx="7199280" cy="6681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5943600" cy="6429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28880" y="99972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из упор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214960" cy="6512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14920" y="274680"/>
            <a:ext cx="518616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на параллельных лыжах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5800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4360" y="571680"/>
            <a:ext cx="7920000" cy="6281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вая фаза скользящего шаг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3080" y="1027080"/>
            <a:ext cx="4845240" cy="58309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тора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42920" y="576360"/>
            <a:ext cx="7345440" cy="6281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реть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етвер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26920" y="576360"/>
            <a:ext cx="7561440" cy="6281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я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3:29Z</dcterms:created>
  <dc:creator>Пользователь</dc:creator>
  <dc:description/>
  <dc:language>en-US</dc:language>
  <cp:lastModifiedBy>Admin</cp:lastModifiedBy>
  <dcterms:modified xsi:type="dcterms:W3CDTF">2012-03-11T19:08:16Z</dcterms:modified>
  <cp:revision>5</cp:revision>
  <dc:subject/>
  <dc:title>Поворот махом на 180° на месте </dc:title>
</cp:coreProperties>
</file>