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A3EC-3532-44CD-9A62-1BFA4252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51BF-9B7C-46DE-A89E-AD58E0DF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B6A2-07E3-4359-B120-F6966502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096C-62AA-4163-9269-A8B34392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C1B5-7417-44BE-B3A5-ADBC4FAA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D777-BFEB-45C7-BAEF-C7856B02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1AA6-77E4-4B57-B49E-AA7C4668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555E-CF4D-41E5-AD61-E7A2438A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98FB-4395-4DE1-BE06-FF3D898F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D3F3-2896-4B22-96E3-6FD28859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FA72-7427-4024-8E45-7281A815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F40F-BEC6-4588-A915-1BB31A21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8004-25AC-4591-B88F-E56B970C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A7CB-6DC6-4638-B21B-BCE8F902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7016-F9CB-4D61-AE81-C6344989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1DB9-0B5F-4BE4-B7D3-B50E04E9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8ABD-5628-44FE-B574-F1420E49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AE121-AFA0-4788-BA64-3FB815A2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041BA-F177-424B-AF10-44164276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A6FA7-1118-4D1C-B511-A3AA2A1D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48B1D-E62D-46F5-9347-48F67C4C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8B94D-07E3-4E7F-AD3D-E3A53928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7AD2-7182-467B-A02E-69E09456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BE9CF-E2FA-4C3B-9CEB-CC1F19F0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624A1-E594-410A-A4D4-57EE35FF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8FEA8-2CF0-40EA-B232-C7FE5650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D70CA-9A80-405B-8F98-52A710FB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CA7E4-DC10-4752-8958-3BE2F4F7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E79F0-2767-4740-B072-CD5E8DBC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58CC0-CA6B-4C2C-A65B-F3D92020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AB93A-120F-46A5-ADD6-54F8BFD0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597FE-795E-4D15-948C-6DDF231E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77ADC-2321-4017-857B-FFCCD4AE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394B-E732-44A6-B54B-6A9A56BC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18594-0CC5-4CEA-AED0-430BE081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4B9E4-86A5-4CF6-9D62-866CB8C9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456AD-A01F-46F3-AD00-81ACB18F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FCBC5-5B57-4E34-8C60-3BD4F9C2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97268-8A2E-48F0-AE70-70AB5E85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C90C9-7543-40F3-B728-F3DBE437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DBFD2-9255-45B4-A245-8A46D827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2A600-7B01-4567-81BD-EE1E03F7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AA4DF-3444-45DF-B081-741465BF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79772-4378-4228-81DF-684A1574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875D-B9B8-4D08-8721-69D57EB3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8788B-CA55-4E22-886B-CF32A21D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27E5E-F02B-47F0-A99A-078209E3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41FA8-6EE8-4672-BCC0-452BB83C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3826D-F975-464E-8AB4-B03B93DB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59ED7-9BA1-4117-BBE1-2E7CD5BF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18849-7E2F-4666-97AD-5DE612BD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BC65C-344D-4E20-950B-DA2C5674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601D8-FE98-48AB-BFD4-D20E9141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84B80-EB80-4C6A-907E-EEDDC2D4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F4694-6FB2-4867-8DEF-A79D74E9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0DFA-E4BA-4E8F-ABCE-52C520A8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C596F-C343-4F8F-930B-139CB893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C24-40F6-4406-9450-0F27DA99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91B2-49F8-4C81-A856-772D0790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349B-A254-44A0-A7E5-B0FE3C84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A765-9EB3-49F4-9A55-3427E4CE862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2816-8BDB-4B11-8DAB-C2FB0E095FC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2C6D-3CE0-4B32-9959-98C4207A3AA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67BF-00A0-4D0F-8DA3-66F00677FE2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74BD-4854-40E1-8A68-8C9FCE79506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05672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бесшажный ход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1357200" y="873000"/>
            <a:ext cx="631512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000080" y="517680"/>
            <a:ext cx="6902640" cy="63403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одношажный ход (основной вариант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428840" y="995400"/>
            <a:ext cx="6429240" cy="56703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28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одношажный ход (скоростной вариант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785960" y="571680"/>
            <a:ext cx="5929200" cy="60973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двухшажный ход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571760" y="1011240"/>
            <a:ext cx="5572080" cy="5846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попеременного на одновременный ход (прямой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961920" y="1247760"/>
            <a:ext cx="6967800" cy="53960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попеременного на одновременный ход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28760" y="1285920"/>
            <a:ext cx="8072280" cy="54291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одновременного на попеременный ход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дъем скользящим шагом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77868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дъем «полуелочкой»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1000080" y="1285920"/>
            <a:ext cx="7215120" cy="51433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дъем «елочкой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571760" y="1928880"/>
            <a:ext cx="6858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971640" y="706320"/>
            <a:ext cx="763272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714680" y="487440"/>
            <a:ext cx="5300640" cy="63705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дъем «лесенкой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пуск в основной стойк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1500120" y="1143000"/>
            <a:ext cx="7000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857160" y="714240"/>
            <a:ext cx="7715520" cy="61437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низкой стойк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2143080" y="485640"/>
            <a:ext cx="4857840" cy="637236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высокой стойк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071720" y="0"/>
            <a:ext cx="735804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стойке отдых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6365880" cy="66438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714400" y="2854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Торможение плуг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6786360" cy="6715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43040" y="274320"/>
            <a:ext cx="7043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переступание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Торможение плугом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357200" y="1000080"/>
            <a:ext cx="57866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5715000" cy="64292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5800" y="285480"/>
            <a:ext cx="46148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упор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500280" y="357120"/>
            <a:ext cx="5357880" cy="62499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44006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плуг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476360" y="176040"/>
            <a:ext cx="7199280" cy="66819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5943600" cy="64292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528880" y="999720"/>
            <a:ext cx="3614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из упор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5214960" cy="6512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14920" y="274680"/>
            <a:ext cx="5186160" cy="1868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на параллельных лыжах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2143080" y="285840"/>
            <a:ext cx="5058000" cy="6572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684360" y="571680"/>
            <a:ext cx="7920000" cy="6281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вая фаза скользящего шаг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143080" y="1027080"/>
            <a:ext cx="4845240" cy="58309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Вторая фаза скользящего шаг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042920" y="576360"/>
            <a:ext cx="7345440" cy="6281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Третья фаза скользящего шаг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Четвертая фаза скользящего шаг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5614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826920" y="576360"/>
            <a:ext cx="7561440" cy="62816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ятая фаза скользящего шаг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5:23:29Z</dcterms:created>
  <dc:creator>Пользователь</dc:creator>
  <dc:description/>
  <dc:language>en-US</dc:language>
  <cp:lastModifiedBy>Admin</cp:lastModifiedBy>
  <dcterms:modified xsi:type="dcterms:W3CDTF">2012-03-11T19:08:16Z</dcterms:modified>
  <cp:revision>5</cp:revision>
  <dc:subject/>
  <dc:title>Поворот махом на 180° на месте </dc:title>
</cp:coreProperties>
</file>