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7CE-0AB4-4C02-9277-507AE329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BF5-27B2-4D8E-B678-5278708C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6C2-E655-43A0-86BF-DF623510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60B-8932-4266-A02E-EABBFA15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5FD6-B4A7-42AF-937E-C33D236F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588B-53CF-4874-9E35-8E7224E2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0D96-9B77-41C6-93B8-D361CFF0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DBBA-103C-4E01-B4EF-75DA8EF5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9E65-E044-450C-842C-7947660F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8BB6-EF99-4F12-AF49-8D195492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FD0C-5539-4AFD-B1E9-2940854E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21E-C0D4-4C76-88DA-424D15A5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53EA-64BE-4E5B-B97C-66A42861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CA55-A16E-424A-93BB-BAD9F65E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E915-1A6F-4D53-BCE1-4CC89EB1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6D09-B54F-406E-B151-EDD9B589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5BA2-EEE2-44BA-8AD9-237860B9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0D9D3-387F-48B8-AE46-FB3283B1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6CC0-BAF2-41A1-85AC-9E97ED46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5724-0394-4989-B53C-43B8C932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CB5F-04FC-453B-8A9B-DA281CE6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929E-C862-4E04-A3BA-C841F9F7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E18-EB8D-479A-8089-592538F9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76199-B91E-4670-93D0-09B7CE99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A5AF1-4C81-4973-B1CF-882B9B5F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01D56-F042-4A43-BB0F-A8F8DB65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929E3-0E35-4A35-A482-B251901B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80BAE-C9F7-4637-B90C-E40A282C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EA0E1-1B3F-42AE-BAEE-37B821E6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68B98-E954-4BCD-8D0E-1440754B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9DC15-33C9-46FB-966C-250CDF8B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906F6-D47F-4842-80FF-7F869A81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4F25B-9BE7-4521-A2A7-9AC67822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2FA-C41B-484F-9EFB-4823A5F4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BC2DC-2412-45F1-9388-552A377F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965C1-1F69-487B-B70D-7536FB6B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6D223-E094-463D-B45C-5E80B550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5FD6D-7BA7-4115-83E3-85B8BCCA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07B4C-FCA8-4C03-B804-2593F750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7B23D-162B-4814-917F-CD533862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08335-3AB4-476E-A590-18053448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05088-570F-40D6-9C29-6CF9D565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4CE3A-369E-4048-9107-71E95EB4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FA7AB-211E-4743-8FC0-4374765C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C86-242E-4FEE-A417-08DB4527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F9E33-BB21-4D00-9732-CFA9E10E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37170-0C69-4A1F-8A1F-64C23405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44832-A37D-410D-B2DE-F54FF8B4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313AD-DC46-4236-AF62-4C5E87EC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DA1BB-6BBA-42EA-A00A-8CEFE6A6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DD390-C1D2-4909-886F-542A9783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CF312-B036-4A7F-844E-31EC0CCC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CBF32-9C0A-43D4-884D-3A46FC25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F691-0385-4BED-876C-D11DBEAE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56AE0-B8C0-4230-BFFD-9FFA6CC1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6BC-0922-4EA5-9F7B-EADF45E0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DC0A8-C847-419F-B383-477275E1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CD6-B587-4186-A8C8-A2B64D9B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F4D-661B-4AAB-864C-F7BBEB9D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9C2-A361-42CD-B3DC-46C4CE5F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2630-C961-4755-9B41-47F1E66866E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A4AB-AFDD-46E3-9365-8C732455096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3B5E-265B-4066-9B95-5EA2990C943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2CF0-BC67-4AB6-887B-7FCF957F32B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80B2-C372-4F29-8E87-78C0876B250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0567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бес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1357200" y="873000"/>
            <a:ext cx="631512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000080" y="517680"/>
            <a:ext cx="6902640" cy="6340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основ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428840" y="995400"/>
            <a:ext cx="6429240" cy="5670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28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скорост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85960" y="571680"/>
            <a:ext cx="5929200" cy="60973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двух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571760" y="1011240"/>
            <a:ext cx="5572080" cy="5846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 (прямой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961920" y="1247760"/>
            <a:ext cx="6967800" cy="53960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8072280" cy="5429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одновременного на попе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скользящим ша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786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«полуелочкой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000080" y="1285920"/>
            <a:ext cx="7215120" cy="51433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елоч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6858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971640" y="706320"/>
            <a:ext cx="763272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714680" y="487440"/>
            <a:ext cx="5300640" cy="63705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лесен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пуск в основной стойк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700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7715520" cy="61437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низ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2143080" y="485640"/>
            <a:ext cx="4857840" cy="63723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высо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735804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стойке отдых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6365880" cy="66438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714400" y="2854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6786360" cy="6715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ереступание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5786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5715000" cy="64292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5800" y="28548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упор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500280" y="357120"/>
            <a:ext cx="5357880" cy="6249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476360" y="176040"/>
            <a:ext cx="7199280" cy="66819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5943600" cy="64292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28880" y="999720"/>
            <a:ext cx="3614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из упор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5214960" cy="6512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14920" y="274680"/>
            <a:ext cx="518616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на параллельных лыжах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5058000" cy="6572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84360" y="571680"/>
            <a:ext cx="7920000" cy="6281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вая фаза скользящего шаг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143080" y="1027080"/>
            <a:ext cx="4845240" cy="58309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тора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042920" y="576360"/>
            <a:ext cx="7345440" cy="6281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реть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Четвер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561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826920" y="576360"/>
            <a:ext cx="7561440" cy="6281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я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5:23:29Z</dcterms:created>
  <dc:creator>Пользователь</dc:creator>
  <dc:description/>
  <dc:language>en-US</dc:language>
  <cp:lastModifiedBy>Admin</cp:lastModifiedBy>
  <dcterms:modified xsi:type="dcterms:W3CDTF">2012-03-11T19:08:16Z</dcterms:modified>
  <cp:revision>5</cp:revision>
  <dc:subject/>
  <dc:title>Поворот махом на 180° на месте </dc:title>
</cp:coreProperties>
</file>